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163-DB66-42BA-B64D-4595AD5D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098-D18E-4E79-A13B-C056EA4C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9B9-3330-4597-8C2A-9CC46B85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ED0-8578-4A40-8034-27636ED2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3DC6-A2BA-494D-9E05-89AC7908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FD41-0E27-4D21-A88A-056DAA8D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4CBC-97CA-4C3F-A621-3965C3AC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87F3-6844-4509-93C2-1D70DC93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63C8-044B-4EF2-980B-50140BE4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960A-8A4A-44CD-B49C-783B5503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FB7A-978F-4688-B562-52191047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F87-F3E2-4001-963D-A7056BCA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272B-EE3C-40EC-9C21-B8FF7241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7157-4A47-4FAE-A769-F9AB5116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458C-F941-471C-8133-FD4E498E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385F-9B4D-428A-A6FD-0B4088BD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D529-25CE-4DD9-9662-26FBE5CE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82C-648F-477D-ABA4-EA1DC3AB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2A5-E396-4925-8F16-AE2635BB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C73-DB39-4BA9-BE57-2DDA9EC0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13E-6891-470D-97BB-E95E8F5B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1BD-1A9E-4EB2-BA9B-1F4B227A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473-EB5D-4EA9-9F47-1677723C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19D-9AD8-44B6-ACF7-5E4D8567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6673-E6AF-48E5-8F83-A219EF23F5BA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A2ED-4710-4273-AEB1-D71819F12DD3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rtualsalt.com/gothic.htm" TargetMode="External"/><Relationship Id="rId3" Type="http://schemas.openxmlformats.org/officeDocument/2006/relationships/hyperlink" Target="http://academic.brooklyn.cuny.edu/enlish/melani/gothic/gothic/goyhic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Gothic Literature</a:t>
            </a:r>
            <a:br>
              <a:rPr sz="4800"/>
            </a:b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By Karina Crochiere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the time period that Gothic  Literature   was Written!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tarted 1785 Horace Walpole's </a:t>
            </a:r>
            <a:r>
              <a:rPr b="0" i="1" lang="en-US" sz="3200" spc="-1" strike="noStrike">
                <a:solidFill>
                  <a:srgbClr val="ffff66"/>
                </a:solidFill>
                <a:latin typeface="Verdana"/>
              </a:rPr>
              <a:t>The Castle of Otranto the first gothic no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Where did most Novels take place ?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Most novels took place  in the  middle ages during dark time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n Italy  most of  the time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Elements of Gothic Novels 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akes place in a castle- sets up  the act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Is full of mystery and Suspense-built around a fear and mystery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legend- is centered around the castle, can be confusing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Omens- a character can see something  or feel something to show something will happen 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Elements of Gothic Novels continue 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uper natural events- Drama happens, something happens  that u can’t explain ex a miracle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ver wrought emotion-to  much of emotion characters can over come their fear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omen in distress/ terror of male- women  become scared freighted by the  male that has too much power over them they  have an emotional wreck because of   the terror of power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Elements of Gothic Novels 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e metonymy of gloom and horror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Metonymy is a subtext of of metaphor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s applied by the elements by  mystery,danger,or super natura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Writing style 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Always use proper fancy words to make more gothic and set in  the time zone where had more proper fancy  word use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Ex: mystery writer used  words like ghost, goblins,  haunted . Miracles etc. 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Websites 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virtualsalt.com/gothic.htm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academic.brooklyn.cuny.edu/enlish/melani/gothic/gothic/goyhic.htm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7:23:11Z</dcterms:created>
  <dc:creator>nps</dc:creator>
  <dc:description/>
  <dc:language>en-US</dc:language>
  <cp:lastModifiedBy>nps</cp:lastModifiedBy>
  <dcterms:modified xsi:type="dcterms:W3CDTF">2011-10-14T18:10:33Z</dcterms:modified>
  <cp:revision>4</cp:revision>
  <dc:subject/>
  <dc:title>Gothic Literature </dc:title>
</cp:coreProperties>
</file>